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DCB-5962-43DE-A71C-FA714693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842-B7C0-45FE-94EC-C0507A3A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0D64-AECC-450A-856B-D967A114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FDF-66D8-457E-83F8-C7EA39BD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BD2-C725-4212-B185-AA3FCA47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FBC-36CF-4849-9E43-74ABCD35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20F-C0B8-41E7-A270-1DBBE9A7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21A8-6214-48BD-A38F-0EDC37FB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ECD-DC27-442A-B9B8-5F1337C1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C04-B696-491D-893B-60D9AD05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D38F-B8F8-44B6-8DB5-5B8E0DDA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5ACC-6BAD-4F73-B1AC-86C073F0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25FB-1DC6-4FA1-9ED5-A3ECA13D2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modelo matricial: reactivos y esca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n 5" descr=""/>
          <p:cNvPicPr/>
          <p:nvPr/>
        </p:nvPicPr>
        <p:blipFill>
          <a:blip r:embed="rId1"/>
          <a:srcRect l="0" t="1838" r="0" b="8757"/>
          <a:stretch/>
        </p:blipFill>
        <p:spPr>
          <a:xfrm>
            <a:off x="500040" y="1500120"/>
            <a:ext cx="807264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ándares interna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3 Marcador de contenido" descr=""/>
          <p:cNvPicPr/>
          <p:nvPr/>
        </p:nvPicPr>
        <p:blipFill>
          <a:blip r:embed="rId1"/>
          <a:stretch/>
        </p:blipFill>
        <p:spPr>
          <a:xfrm>
            <a:off x="414360" y="1163520"/>
            <a:ext cx="8345520" cy="4713480"/>
          </a:xfrm>
          <a:prstGeom prst="rect">
            <a:avLst/>
          </a:prstGeom>
          <a:ln w="0">
            <a:noFill/>
          </a:ln>
        </p:spPr>
      </p:pic>
      <p:sp>
        <p:nvSpPr>
          <p:cNvPr id="45" name="4 CuadroTexto"/>
          <p:cNvSpPr/>
          <p:nvPr/>
        </p:nvSpPr>
        <p:spPr>
          <a:xfrm>
            <a:off x="1676160" y="6072120"/>
            <a:ext cx="57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he Joint Committee on Standars for Evaluation (19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propuesta: compo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iterios 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r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r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rtfol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3490920" y="2924280"/>
            <a:ext cx="2160720" cy="100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60640" y="32446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00000" y="1397160"/>
          <a:ext cx="7620120" cy="406368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Matriz General para cada una de las competenci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Matriz Específica para la evaluación de tareas (rúbricas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portfolio de competencias básicas para cada estudiant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429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a Matriz General por compe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71680" y="1143000"/>
          <a:ext cx="7786440" cy="4425840"/>
        </p:xfrm>
        <a:graphic>
          <a:graphicData uri="http://schemas.openxmlformats.org/drawingml/2006/table">
            <a:tbl>
              <a:tblPr/>
              <a:tblGrid>
                <a:gridCol w="2143080"/>
                <a:gridCol w="5643360"/>
              </a:tblGrid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petencia Comunicación Linguís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82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iterios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8237"/>
                    </a:solidFill>
                  </a:tcPr>
                </a:tc>
              </a:tr>
              <a:tr h="3659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ºCic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41200" indent="-2412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 Participar en las situaciones de comunicación del aula, respetando las normas del intercambio: guardar el turno de palabra, escuchar, mirar al interlocutor, mantener el tema. (LCy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41200" indent="-2412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 Expresarse de forma oral con un vocabulario adecuado, no discriminatorio, reconociendo algunas peculiaridades relevantes del español de Canarias. (LCy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41200" indent="-2412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 Captar el sentido global de textos orales de uso habitual, reconociendo las informaciones más relevantes. (LCyL) ……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1835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úbricas y esca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3 Marcador de contenido" descr=""/>
          <p:cNvPicPr/>
          <p:nvPr/>
        </p:nvPicPr>
        <p:blipFill>
          <a:blip r:embed="rId1"/>
          <a:stretch/>
        </p:blipFill>
        <p:spPr>
          <a:xfrm>
            <a:off x="304920" y="1268280"/>
            <a:ext cx="8485200" cy="188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uadrorubricbig"/>
          <p:cNvPicPr/>
          <p:nvPr/>
        </p:nvPicPr>
        <p:blipFill>
          <a:blip r:embed="rId2"/>
          <a:stretch/>
        </p:blipFill>
        <p:spPr>
          <a:xfrm>
            <a:off x="1143000" y="3143160"/>
            <a:ext cx="6429240" cy="2714760"/>
          </a:xfrm>
          <a:prstGeom prst="rect">
            <a:avLst/>
          </a:prstGeom>
          <a:ln w="0">
            <a:noFill/>
          </a:ln>
        </p:spPr>
      </p:pic>
      <p:sp>
        <p:nvSpPr>
          <p:cNvPr id="57" name="5 CuadroTexto"/>
          <p:cNvSpPr/>
          <p:nvPr/>
        </p:nvSpPr>
        <p:spPr>
          <a:xfrm>
            <a:off x="2510280" y="600084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duteka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 Matriz Específica por tarea (rúbr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71680" y="1428840"/>
          <a:ext cx="7858080" cy="4529160"/>
        </p:xfrm>
        <a:graphic>
          <a:graphicData uri="http://schemas.openxmlformats.org/drawingml/2006/table">
            <a:tbl>
              <a:tblPr/>
              <a:tblGrid>
                <a:gridCol w="4348080"/>
                <a:gridCol w="1158840"/>
                <a:gridCol w="1035000"/>
                <a:gridCol w="1316160"/>
              </a:tblGrid>
              <a:tr h="1577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pectos a evaluar (tomados de los criterios de evaluación expuestos en la Matriz General de Primaria. Criterio de evaluación incluido en todos los niveles de Prim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ive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ive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ive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5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oner en soporte papel y digital, usando el registro adecuad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657d9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</a:tr>
              <a:tr h="328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ganizando las ideas con claridad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57d9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</a:tr>
              <a:tr h="65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lazando los enunciados en secuencias lineales cohesionada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57d9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</a:tr>
              <a:tr h="656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etando las normas gramaticales y ortográf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57d9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</a:tr>
              <a:tr h="65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lorando la importancia de planificar y revisar el tex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57d9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9ec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0:10:57Z</dcterms:created>
  <dc:creator>pilar</dc:creator>
  <dc:description/>
  <dc:language>en-US</dc:language>
  <cp:lastModifiedBy>hp</cp:lastModifiedBy>
  <dcterms:modified xsi:type="dcterms:W3CDTF">2010-03-07T12:30:18Z</dcterms:modified>
  <cp:revision>2</cp:revision>
  <dc:subject/>
  <dc:title>Un modelo matricial: reactivos y escalas</dc:title>
</cp:coreProperties>
</file>